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E9D-32B7-433C-BBFC-A2B28113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61D-5731-4F93-9601-91C05C4A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4E5-3209-4CE3-B3D8-8AA6D9F6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CA3-BB02-4C57-9D9B-CCA6AB37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B93-9857-4FBD-A96D-4823086C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E6F-7514-44FE-A52F-D56C0E1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A34-33A2-4930-B841-425F4B80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6A4-8634-4CE2-A3F3-43CC9390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357-3AE0-4647-AD03-EAE52DC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8BD-B6BB-4461-BF36-71EFFFF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E9B-D30A-4B6E-8EC0-3A4CD8B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687-A2FF-4409-B52F-A54FA6C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7C45-1CA2-4076-88FC-C1F8CA5895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202-B238-4722-A5B6-E47A3474BA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9640" y="14637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茶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168720" y="62064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16000" y="1700280"/>
            <a:ext cx="6912000" cy="3672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50000">
                <a:srgbClr val="704d2d"/>
              </a:gs>
              <a:gs pos="100000">
                <a:srgbClr val="704d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5589720"/>
            <a:ext cx="8137800" cy="360"/>
            <a:chOff x="539640" y="5589720"/>
            <a:chExt cx="8137800" cy="360"/>
          </a:xfrm>
        </p:grpSpPr>
        <p:sp>
          <p:nvSpPr>
            <p:cNvPr id="52" name="直接连接符 6"/>
            <p:cNvSpPr/>
            <p:nvPr/>
          </p:nvSpPr>
          <p:spPr>
            <a:xfrm>
              <a:off x="539640" y="5589720"/>
              <a:ext cx="8137800" cy="0"/>
            </a:xfrm>
            <a:prstGeom prst="line">
              <a:avLst/>
            </a:prstGeom>
            <a:ln w="60480">
              <a:solidFill>
                <a:srgbClr val="704d2d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39640" y="5589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24000" y="1989000"/>
            <a:ext cx="5256360" cy="576360"/>
          </a:xfrm>
          <a:prstGeom prst="rect">
            <a:avLst/>
          </a:prstGeom>
          <a:gradFill rotWithShape="0">
            <a:gsLst>
              <a:gs pos="0">
                <a:srgbClr val="bf8967"/>
              </a:gs>
              <a:gs pos="50000">
                <a:srgbClr val="bf8967"/>
              </a:gs>
              <a:gs pos="100000">
                <a:srgbClr val="bf8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35280" y="2733840"/>
            <a:ext cx="5257800" cy="574560"/>
          </a:xfrm>
          <a:prstGeom prst="rect">
            <a:avLst/>
          </a:prstGeom>
          <a:gradFill rotWithShape="0">
            <a:gsLst>
              <a:gs pos="0">
                <a:srgbClr val="809761"/>
              </a:gs>
              <a:gs pos="100000">
                <a:srgbClr val="8097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835280" y="3476520"/>
            <a:ext cx="525780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124000" y="4221000"/>
            <a:ext cx="5256360" cy="576360"/>
          </a:xfrm>
          <a:prstGeom prst="rect">
            <a:avLst/>
          </a:prstGeom>
          <a:gradFill rotWithShape="0">
            <a:gsLst>
              <a:gs pos="0">
                <a:srgbClr val="1b120d"/>
              </a:gs>
              <a:gs pos="100000">
                <a:srgbClr val="1b12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479600" y="1557360"/>
            <a:ext cx="64908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1185840" y="2286000"/>
            <a:ext cx="647640" cy="649440"/>
          </a:xfrm>
          <a:prstGeom prst="rect">
            <a:avLst/>
          </a:prstGeom>
          <a:solidFill>
            <a:srgbClr val="809761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487520" y="4581360"/>
            <a:ext cx="649080" cy="648000"/>
          </a:xfrm>
          <a:prstGeom prst="rect">
            <a:avLst/>
          </a:prstGeom>
          <a:solidFill>
            <a:srgbClr val="1b120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187280" y="3787920"/>
            <a:ext cx="648000" cy="647640"/>
          </a:xfrm>
          <a:prstGeom prst="rect">
            <a:avLst/>
          </a:prstGeom>
          <a:solidFill>
            <a:srgbClr val="924f1b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308720" y="18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835280" y="2697120"/>
            <a:ext cx="576108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187280" y="2335320"/>
            <a:ext cx="64800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1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16">
                                          <p:stCondLst>
                                            <p:cond delay="1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8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9">
                                          <p:stCondLst>
                                            <p:cond delay="2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5" fill="hold">
                                          <p:stCondLst>
                                            <p:cond delay="1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9" fill="hold">
                                          <p:stCondLst>
                                            <p:cond delay="11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5" fill="hold">
                                          <p:stCondLst>
                                            <p:cond delay="23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9" fill="hold">
                                          <p:stCondLst>
                                            <p:cond delay="2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5" fill="hold">
                                          <p:stCondLst>
                                            <p:cond delay="2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9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5" fill="hold">
                                          <p:stCondLst>
                                            <p:cond delay="3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9" fill="hold">
                                          <p:stCondLst>
                                            <p:cond delay="3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7172"/>
          <p:cNvGrpSpPr/>
          <p:nvPr/>
        </p:nvGrpSpPr>
        <p:grpSpPr>
          <a:xfrm>
            <a:off x="1457280" y="2576520"/>
            <a:ext cx="1387440" cy="1469520"/>
            <a:chOff x="1457280" y="2576520"/>
            <a:chExt cx="1387440" cy="1469520"/>
          </a:xfrm>
        </p:grpSpPr>
        <p:sp>
          <p:nvSpPr>
            <p:cNvPr id="74" name="Freeform 9"/>
            <p:cNvSpPr/>
            <p:nvPr/>
          </p:nvSpPr>
          <p:spPr>
            <a:xfrm>
              <a:off x="145728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0" y="225"/>
                  </a:moveTo>
                  <a:lnTo>
                    <a:pt x="0" y="225"/>
                  </a:lnTo>
                  <a:lnTo>
                    <a:pt x="54" y="199"/>
                  </a:lnTo>
                  <a:lnTo>
                    <a:pt x="110" y="175"/>
                  </a:lnTo>
                  <a:lnTo>
                    <a:pt x="168" y="153"/>
                  </a:lnTo>
                  <a:lnTo>
                    <a:pt x="229" y="130"/>
                  </a:lnTo>
                  <a:lnTo>
                    <a:pt x="291" y="111"/>
                  </a:lnTo>
                  <a:lnTo>
                    <a:pt x="356" y="92"/>
                  </a:lnTo>
                  <a:lnTo>
                    <a:pt x="422" y="75"/>
                  </a:lnTo>
                  <a:lnTo>
                    <a:pt x="490" y="60"/>
                  </a:lnTo>
                  <a:lnTo>
                    <a:pt x="560" y="46"/>
                  </a:lnTo>
                  <a:lnTo>
                    <a:pt x="632" y="34"/>
                  </a:lnTo>
                  <a:lnTo>
                    <a:pt x="704" y="23"/>
                  </a:lnTo>
                  <a:lnTo>
                    <a:pt x="778" y="15"/>
                  </a:lnTo>
                  <a:lnTo>
                    <a:pt x="855" y="9"/>
                  </a:lnTo>
                  <a:lnTo>
                    <a:pt x="932" y="4"/>
                  </a:lnTo>
                  <a:lnTo>
                    <a:pt x="1010" y="1"/>
                  </a:lnTo>
                  <a:lnTo>
                    <a:pt x="1089" y="0"/>
                  </a:lnTo>
                  <a:lnTo>
                    <a:pt x="1089" y="768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45728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543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089" y="929"/>
                  </a:lnTo>
                  <a:lnTo>
                    <a:pt x="1089" y="543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175"/>
          <p:cNvGrpSpPr/>
          <p:nvPr/>
        </p:nvGrpSpPr>
        <p:grpSpPr>
          <a:xfrm>
            <a:off x="2844720" y="2576520"/>
            <a:ext cx="1387440" cy="1469520"/>
            <a:chOff x="2844720" y="2576520"/>
            <a:chExt cx="1387440" cy="1469520"/>
          </a:xfrm>
        </p:grpSpPr>
        <p:sp>
          <p:nvSpPr>
            <p:cNvPr id="77" name="Freeform 12"/>
            <p:cNvSpPr/>
            <p:nvPr/>
          </p:nvSpPr>
          <p:spPr>
            <a:xfrm>
              <a:off x="284472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1089" y="225"/>
                  </a:moveTo>
                  <a:lnTo>
                    <a:pt x="1089" y="225"/>
                  </a:lnTo>
                  <a:lnTo>
                    <a:pt x="1035" y="199"/>
                  </a:lnTo>
                  <a:lnTo>
                    <a:pt x="979" y="175"/>
                  </a:lnTo>
                  <a:lnTo>
                    <a:pt x="921" y="153"/>
                  </a:lnTo>
                  <a:lnTo>
                    <a:pt x="860" y="130"/>
                  </a:lnTo>
                  <a:lnTo>
                    <a:pt x="798" y="111"/>
                  </a:lnTo>
                  <a:lnTo>
                    <a:pt x="733" y="92"/>
                  </a:lnTo>
                  <a:lnTo>
                    <a:pt x="667" y="75"/>
                  </a:lnTo>
                  <a:lnTo>
                    <a:pt x="599" y="60"/>
                  </a:lnTo>
                  <a:lnTo>
                    <a:pt x="529" y="46"/>
                  </a:lnTo>
                  <a:lnTo>
                    <a:pt x="457" y="34"/>
                  </a:lnTo>
                  <a:lnTo>
                    <a:pt x="385" y="23"/>
                  </a:lnTo>
                  <a:lnTo>
                    <a:pt x="311" y="15"/>
                  </a:lnTo>
                  <a:lnTo>
                    <a:pt x="234" y="9"/>
                  </a:lnTo>
                  <a:lnTo>
                    <a:pt x="157" y="4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768"/>
                  </a:lnTo>
                  <a:lnTo>
                    <a:pt x="1089" y="225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4472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543"/>
                  </a:moveTo>
                  <a:lnTo>
                    <a:pt x="1089" y="0"/>
                  </a:lnTo>
                  <a:lnTo>
                    <a:pt x="1089" y="385"/>
                  </a:lnTo>
                  <a:lnTo>
                    <a:pt x="0" y="9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178"/>
          <p:cNvGrpSpPr/>
          <p:nvPr/>
        </p:nvGrpSpPr>
        <p:grpSpPr>
          <a:xfrm>
            <a:off x="885960" y="2865600"/>
            <a:ext cx="1960560" cy="1182240"/>
            <a:chOff x="885960" y="2865600"/>
            <a:chExt cx="1960560" cy="1182240"/>
          </a:xfrm>
        </p:grpSpPr>
        <p:sp>
          <p:nvSpPr>
            <p:cNvPr id="80" name="Freeform 15"/>
            <p:cNvSpPr/>
            <p:nvPr/>
          </p:nvSpPr>
          <p:spPr>
            <a:xfrm>
              <a:off x="885960" y="2865600"/>
              <a:ext cx="196056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1539" y="543"/>
                  </a:moveTo>
                  <a:lnTo>
                    <a:pt x="450" y="0"/>
                  </a:lnTo>
                  <a:lnTo>
                    <a:pt x="450" y="0"/>
                  </a:lnTo>
                  <a:lnTo>
                    <a:pt x="400" y="27"/>
                  </a:lnTo>
                  <a:lnTo>
                    <a:pt x="351" y="55"/>
                  </a:lnTo>
                  <a:lnTo>
                    <a:pt x="306" y="84"/>
                  </a:lnTo>
                  <a:lnTo>
                    <a:pt x="263" y="114"/>
                  </a:lnTo>
                  <a:lnTo>
                    <a:pt x="223" y="144"/>
                  </a:lnTo>
                  <a:lnTo>
                    <a:pt x="186" y="177"/>
                  </a:lnTo>
                  <a:lnTo>
                    <a:pt x="152" y="210"/>
                  </a:lnTo>
                  <a:lnTo>
                    <a:pt x="121" y="245"/>
                  </a:lnTo>
                  <a:lnTo>
                    <a:pt x="93" y="279"/>
                  </a:lnTo>
                  <a:lnTo>
                    <a:pt x="80" y="298"/>
                  </a:lnTo>
                  <a:lnTo>
                    <a:pt x="70" y="315"/>
                  </a:lnTo>
                  <a:lnTo>
                    <a:pt x="58" y="333"/>
                  </a:lnTo>
                  <a:lnTo>
                    <a:pt x="49" y="352"/>
                  </a:lnTo>
                  <a:lnTo>
                    <a:pt x="39" y="370"/>
                  </a:lnTo>
                  <a:lnTo>
                    <a:pt x="31" y="389"/>
                  </a:lnTo>
                  <a:lnTo>
                    <a:pt x="23" y="407"/>
                  </a:lnTo>
                  <a:lnTo>
                    <a:pt x="18" y="427"/>
                  </a:lnTo>
                  <a:lnTo>
                    <a:pt x="13" y="445"/>
                  </a:lnTo>
                  <a:lnTo>
                    <a:pt x="8" y="465"/>
                  </a:lnTo>
                  <a:lnTo>
                    <a:pt x="5" y="485"/>
                  </a:lnTo>
                  <a:lnTo>
                    <a:pt x="2" y="504"/>
                  </a:lnTo>
                  <a:lnTo>
                    <a:pt x="1" y="523"/>
                  </a:lnTo>
                  <a:lnTo>
                    <a:pt x="0" y="543"/>
                  </a:lnTo>
                  <a:lnTo>
                    <a:pt x="1539" y="5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885960" y="3556440"/>
              <a:ext cx="1960560" cy="491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181"/>
          <p:cNvGrpSpPr/>
          <p:nvPr/>
        </p:nvGrpSpPr>
        <p:grpSpPr>
          <a:xfrm>
            <a:off x="2844720" y="2865600"/>
            <a:ext cx="1959120" cy="1182240"/>
            <a:chOff x="2844720" y="2865600"/>
            <a:chExt cx="1959120" cy="1182240"/>
          </a:xfrm>
        </p:grpSpPr>
        <p:sp>
          <p:nvSpPr>
            <p:cNvPr id="83" name="Freeform 18"/>
            <p:cNvSpPr/>
            <p:nvPr/>
          </p:nvSpPr>
          <p:spPr>
            <a:xfrm>
              <a:off x="2844720" y="2865600"/>
              <a:ext cx="195912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0" y="543"/>
                  </a:moveTo>
                  <a:lnTo>
                    <a:pt x="1089" y="0"/>
                  </a:lnTo>
                  <a:lnTo>
                    <a:pt x="1089" y="0"/>
                  </a:lnTo>
                  <a:lnTo>
                    <a:pt x="1139" y="27"/>
                  </a:lnTo>
                  <a:lnTo>
                    <a:pt x="1188" y="55"/>
                  </a:lnTo>
                  <a:lnTo>
                    <a:pt x="1233" y="84"/>
                  </a:lnTo>
                  <a:lnTo>
                    <a:pt x="1276" y="114"/>
                  </a:lnTo>
                  <a:lnTo>
                    <a:pt x="1316" y="144"/>
                  </a:lnTo>
                  <a:lnTo>
                    <a:pt x="1353" y="177"/>
                  </a:lnTo>
                  <a:lnTo>
                    <a:pt x="1387" y="210"/>
                  </a:lnTo>
                  <a:lnTo>
                    <a:pt x="1418" y="245"/>
                  </a:lnTo>
                  <a:lnTo>
                    <a:pt x="1446" y="279"/>
                  </a:lnTo>
                  <a:lnTo>
                    <a:pt x="1459" y="298"/>
                  </a:lnTo>
                  <a:lnTo>
                    <a:pt x="1469" y="315"/>
                  </a:lnTo>
                  <a:lnTo>
                    <a:pt x="1481" y="333"/>
                  </a:lnTo>
                  <a:lnTo>
                    <a:pt x="1490" y="352"/>
                  </a:lnTo>
                  <a:lnTo>
                    <a:pt x="1500" y="370"/>
                  </a:lnTo>
                  <a:lnTo>
                    <a:pt x="1508" y="389"/>
                  </a:lnTo>
                  <a:lnTo>
                    <a:pt x="1516" y="407"/>
                  </a:lnTo>
                  <a:lnTo>
                    <a:pt x="1521" y="427"/>
                  </a:lnTo>
                  <a:lnTo>
                    <a:pt x="1526" y="445"/>
                  </a:lnTo>
                  <a:lnTo>
                    <a:pt x="1531" y="465"/>
                  </a:lnTo>
                  <a:lnTo>
                    <a:pt x="1534" y="485"/>
                  </a:lnTo>
                  <a:lnTo>
                    <a:pt x="1537" y="504"/>
                  </a:lnTo>
                  <a:lnTo>
                    <a:pt x="1538" y="523"/>
                  </a:lnTo>
                  <a:lnTo>
                    <a:pt x="153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2844720" y="3556440"/>
              <a:ext cx="1959120" cy="4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84"/>
          <p:cNvGrpSpPr/>
          <p:nvPr/>
        </p:nvGrpSpPr>
        <p:grpSpPr>
          <a:xfrm>
            <a:off x="885960" y="3559320"/>
            <a:ext cx="1960560" cy="1184040"/>
            <a:chOff x="885960" y="3559320"/>
            <a:chExt cx="1960560" cy="1184040"/>
          </a:xfrm>
        </p:grpSpPr>
        <p:sp>
          <p:nvSpPr>
            <p:cNvPr id="86" name="Freeform 21"/>
            <p:cNvSpPr/>
            <p:nvPr/>
          </p:nvSpPr>
          <p:spPr>
            <a:xfrm>
              <a:off x="885960" y="3559320"/>
              <a:ext cx="1960560" cy="69300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1539" y="0"/>
                  </a:moveTo>
                  <a:lnTo>
                    <a:pt x="450" y="544"/>
                  </a:ln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53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885960" y="3559320"/>
              <a:ext cx="573120" cy="118404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450" y="544"/>
                  </a:move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1" y="406"/>
                  </a:lnTo>
                  <a:lnTo>
                    <a:pt x="2" y="425"/>
                  </a:lnTo>
                  <a:lnTo>
                    <a:pt x="5" y="444"/>
                  </a:lnTo>
                  <a:lnTo>
                    <a:pt x="8" y="464"/>
                  </a:lnTo>
                  <a:lnTo>
                    <a:pt x="13" y="484"/>
                  </a:lnTo>
                  <a:lnTo>
                    <a:pt x="18" y="502"/>
                  </a:lnTo>
                  <a:lnTo>
                    <a:pt x="23" y="522"/>
                  </a:lnTo>
                  <a:lnTo>
                    <a:pt x="31" y="540"/>
                  </a:lnTo>
                  <a:lnTo>
                    <a:pt x="39" y="559"/>
                  </a:lnTo>
                  <a:lnTo>
                    <a:pt x="49" y="577"/>
                  </a:lnTo>
                  <a:lnTo>
                    <a:pt x="58" y="596"/>
                  </a:lnTo>
                  <a:lnTo>
                    <a:pt x="70" y="614"/>
                  </a:lnTo>
                  <a:lnTo>
                    <a:pt x="80" y="631"/>
                  </a:lnTo>
                  <a:lnTo>
                    <a:pt x="93" y="650"/>
                  </a:lnTo>
                  <a:lnTo>
                    <a:pt x="121" y="684"/>
                  </a:lnTo>
                  <a:lnTo>
                    <a:pt x="152" y="719"/>
                  </a:lnTo>
                  <a:lnTo>
                    <a:pt x="186" y="752"/>
                  </a:lnTo>
                  <a:lnTo>
                    <a:pt x="223" y="785"/>
                  </a:lnTo>
                  <a:lnTo>
                    <a:pt x="263" y="815"/>
                  </a:lnTo>
                  <a:lnTo>
                    <a:pt x="306" y="845"/>
                  </a:lnTo>
                  <a:lnTo>
                    <a:pt x="351" y="874"/>
                  </a:lnTo>
                  <a:lnTo>
                    <a:pt x="400" y="902"/>
                  </a:lnTo>
                  <a:lnTo>
                    <a:pt x="450" y="929"/>
                  </a:lnTo>
                  <a:lnTo>
                    <a:pt x="450" y="544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1459080" y="3559320"/>
              <a:ext cx="1387440" cy="118404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386"/>
                  </a:moveTo>
                  <a:lnTo>
                    <a:pt x="0" y="929"/>
                  </a:lnTo>
                  <a:lnTo>
                    <a:pt x="0" y="544"/>
                  </a:lnTo>
                  <a:lnTo>
                    <a:pt x="1089" y="0"/>
                  </a:lnTo>
                  <a:lnTo>
                    <a:pt x="1089" y="38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188"/>
          <p:cNvGrpSpPr/>
          <p:nvPr/>
        </p:nvGrpSpPr>
        <p:grpSpPr>
          <a:xfrm>
            <a:off x="3187800" y="3728880"/>
            <a:ext cx="1958760" cy="1184400"/>
            <a:chOff x="3187800" y="3728880"/>
            <a:chExt cx="1958760" cy="1184400"/>
          </a:xfrm>
        </p:grpSpPr>
        <p:sp>
          <p:nvSpPr>
            <p:cNvPr id="90" name="Freeform 25"/>
            <p:cNvSpPr/>
            <p:nvPr/>
          </p:nvSpPr>
          <p:spPr>
            <a:xfrm>
              <a:off x="3187800" y="3728880"/>
              <a:ext cx="1958760" cy="69336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0" y="0"/>
                  </a:moveTo>
                  <a:lnTo>
                    <a:pt x="1089" y="544"/>
                  </a:lnTo>
                  <a:lnTo>
                    <a:pt x="1089" y="544"/>
                  </a:lnTo>
                  <a:lnTo>
                    <a:pt x="1139" y="518"/>
                  </a:lnTo>
                  <a:lnTo>
                    <a:pt x="1188" y="490"/>
                  </a:lnTo>
                  <a:lnTo>
                    <a:pt x="1233" y="461"/>
                  </a:lnTo>
                  <a:lnTo>
                    <a:pt x="1276" y="431"/>
                  </a:lnTo>
                  <a:lnTo>
                    <a:pt x="1316" y="399"/>
                  </a:lnTo>
                  <a:lnTo>
                    <a:pt x="1353" y="367"/>
                  </a:lnTo>
                  <a:lnTo>
                    <a:pt x="1387" y="334"/>
                  </a:lnTo>
                  <a:lnTo>
                    <a:pt x="1418" y="300"/>
                  </a:lnTo>
                  <a:lnTo>
                    <a:pt x="1446" y="266"/>
                  </a:lnTo>
                  <a:lnTo>
                    <a:pt x="1459" y="247"/>
                  </a:lnTo>
                  <a:lnTo>
                    <a:pt x="1469" y="230"/>
                  </a:lnTo>
                  <a:lnTo>
                    <a:pt x="1481" y="211"/>
                  </a:lnTo>
                  <a:lnTo>
                    <a:pt x="1490" y="193"/>
                  </a:lnTo>
                  <a:lnTo>
                    <a:pt x="1500" y="175"/>
                  </a:lnTo>
                  <a:lnTo>
                    <a:pt x="1508" y="156"/>
                  </a:lnTo>
                  <a:lnTo>
                    <a:pt x="1516" y="136"/>
                  </a:lnTo>
                  <a:lnTo>
                    <a:pt x="1521" y="118"/>
                  </a:lnTo>
                  <a:lnTo>
                    <a:pt x="1526" y="99"/>
                  </a:lnTo>
                  <a:lnTo>
                    <a:pt x="1531" y="79"/>
                  </a:lnTo>
                  <a:lnTo>
                    <a:pt x="1534" y="60"/>
                  </a:lnTo>
                  <a:lnTo>
                    <a:pt x="1537" y="40"/>
                  </a:lnTo>
                  <a:lnTo>
                    <a:pt x="1538" y="20"/>
                  </a:lnTo>
                  <a:lnTo>
                    <a:pt x="15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4573440" y="3728880"/>
              <a:ext cx="572760" cy="118440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0" y="544"/>
                  </a:moveTo>
                  <a:lnTo>
                    <a:pt x="0" y="544"/>
                  </a:lnTo>
                  <a:lnTo>
                    <a:pt x="50" y="518"/>
                  </a:lnTo>
                  <a:lnTo>
                    <a:pt x="99" y="490"/>
                  </a:lnTo>
                  <a:lnTo>
                    <a:pt x="144" y="461"/>
                  </a:lnTo>
                  <a:lnTo>
                    <a:pt x="187" y="431"/>
                  </a:lnTo>
                  <a:lnTo>
                    <a:pt x="227" y="399"/>
                  </a:lnTo>
                  <a:lnTo>
                    <a:pt x="264" y="367"/>
                  </a:lnTo>
                  <a:lnTo>
                    <a:pt x="298" y="334"/>
                  </a:lnTo>
                  <a:lnTo>
                    <a:pt x="329" y="300"/>
                  </a:lnTo>
                  <a:lnTo>
                    <a:pt x="357" y="266"/>
                  </a:lnTo>
                  <a:lnTo>
                    <a:pt x="370" y="247"/>
                  </a:lnTo>
                  <a:lnTo>
                    <a:pt x="380" y="230"/>
                  </a:lnTo>
                  <a:lnTo>
                    <a:pt x="392" y="211"/>
                  </a:lnTo>
                  <a:lnTo>
                    <a:pt x="401" y="193"/>
                  </a:lnTo>
                  <a:lnTo>
                    <a:pt x="411" y="175"/>
                  </a:lnTo>
                  <a:lnTo>
                    <a:pt x="419" y="156"/>
                  </a:lnTo>
                  <a:lnTo>
                    <a:pt x="427" y="136"/>
                  </a:lnTo>
                  <a:lnTo>
                    <a:pt x="432" y="118"/>
                  </a:lnTo>
                  <a:lnTo>
                    <a:pt x="437" y="99"/>
                  </a:lnTo>
                  <a:lnTo>
                    <a:pt x="442" y="79"/>
                  </a:lnTo>
                  <a:lnTo>
                    <a:pt x="445" y="60"/>
                  </a:lnTo>
                  <a:lnTo>
                    <a:pt x="448" y="40"/>
                  </a:lnTo>
                  <a:lnTo>
                    <a:pt x="449" y="20"/>
                  </a:lnTo>
                  <a:lnTo>
                    <a:pt x="450" y="0"/>
                  </a:lnTo>
                  <a:lnTo>
                    <a:pt x="450" y="386"/>
                  </a:lnTo>
                  <a:lnTo>
                    <a:pt x="450" y="386"/>
                  </a:lnTo>
                  <a:lnTo>
                    <a:pt x="449" y="406"/>
                  </a:lnTo>
                  <a:lnTo>
                    <a:pt x="448" y="425"/>
                  </a:lnTo>
                  <a:lnTo>
                    <a:pt x="445" y="444"/>
                  </a:lnTo>
                  <a:lnTo>
                    <a:pt x="442" y="464"/>
                  </a:lnTo>
                  <a:lnTo>
                    <a:pt x="437" y="484"/>
                  </a:lnTo>
                  <a:lnTo>
                    <a:pt x="432" y="502"/>
                  </a:lnTo>
                  <a:lnTo>
                    <a:pt x="427" y="522"/>
                  </a:lnTo>
                  <a:lnTo>
                    <a:pt x="419" y="540"/>
                  </a:lnTo>
                  <a:lnTo>
                    <a:pt x="411" y="559"/>
                  </a:lnTo>
                  <a:lnTo>
                    <a:pt x="401" y="577"/>
                  </a:lnTo>
                  <a:lnTo>
                    <a:pt x="392" y="596"/>
                  </a:lnTo>
                  <a:lnTo>
                    <a:pt x="380" y="614"/>
                  </a:lnTo>
                  <a:lnTo>
                    <a:pt x="370" y="631"/>
                  </a:lnTo>
                  <a:lnTo>
                    <a:pt x="357" y="650"/>
                  </a:lnTo>
                  <a:lnTo>
                    <a:pt x="329" y="684"/>
                  </a:lnTo>
                  <a:lnTo>
                    <a:pt x="298" y="719"/>
                  </a:lnTo>
                  <a:lnTo>
                    <a:pt x="264" y="752"/>
                  </a:lnTo>
                  <a:lnTo>
                    <a:pt x="227" y="785"/>
                  </a:lnTo>
                  <a:lnTo>
                    <a:pt x="187" y="815"/>
                  </a:lnTo>
                  <a:lnTo>
                    <a:pt x="144" y="845"/>
                  </a:lnTo>
                  <a:lnTo>
                    <a:pt x="99" y="874"/>
                  </a:lnTo>
                  <a:lnTo>
                    <a:pt x="50" y="902"/>
                  </a:lnTo>
                  <a:lnTo>
                    <a:pt x="0" y="929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3187800" y="3728880"/>
              <a:ext cx="1385640" cy="118440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386"/>
                  </a:moveTo>
                  <a:lnTo>
                    <a:pt x="1089" y="929"/>
                  </a:lnTo>
                  <a:lnTo>
                    <a:pt x="1089" y="544"/>
                  </a:lnTo>
                  <a:lnTo>
                    <a:pt x="0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7192"/>
          <p:cNvGrpSpPr/>
          <p:nvPr/>
        </p:nvGrpSpPr>
        <p:grpSpPr>
          <a:xfrm>
            <a:off x="3009960" y="3873600"/>
            <a:ext cx="1387440" cy="1469520"/>
            <a:chOff x="3009960" y="3873600"/>
            <a:chExt cx="1387440" cy="1469520"/>
          </a:xfrm>
        </p:grpSpPr>
        <p:sp>
          <p:nvSpPr>
            <p:cNvPr id="94" name="Freeform 29"/>
            <p:cNvSpPr/>
            <p:nvPr/>
          </p:nvSpPr>
          <p:spPr>
            <a:xfrm>
              <a:off x="3009960" y="387360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1089" y="544"/>
                  </a:moveTo>
                  <a:lnTo>
                    <a:pt x="1089" y="544"/>
                  </a:lnTo>
                  <a:lnTo>
                    <a:pt x="1035" y="571"/>
                  </a:lnTo>
                  <a:lnTo>
                    <a:pt x="979" y="594"/>
                  </a:lnTo>
                  <a:lnTo>
                    <a:pt x="921" y="617"/>
                  </a:lnTo>
                  <a:lnTo>
                    <a:pt x="860" y="638"/>
                  </a:lnTo>
                  <a:lnTo>
                    <a:pt x="798" y="658"/>
                  </a:lnTo>
                  <a:lnTo>
                    <a:pt x="733" y="678"/>
                  </a:lnTo>
                  <a:lnTo>
                    <a:pt x="667" y="693"/>
                  </a:lnTo>
                  <a:lnTo>
                    <a:pt x="599" y="709"/>
                  </a:lnTo>
                  <a:lnTo>
                    <a:pt x="529" y="723"/>
                  </a:lnTo>
                  <a:lnTo>
                    <a:pt x="457" y="736"/>
                  </a:lnTo>
                  <a:lnTo>
                    <a:pt x="385" y="745"/>
                  </a:lnTo>
                  <a:lnTo>
                    <a:pt x="311" y="754"/>
                  </a:lnTo>
                  <a:lnTo>
                    <a:pt x="234" y="761"/>
                  </a:lnTo>
                  <a:lnTo>
                    <a:pt x="157" y="766"/>
                  </a:lnTo>
                  <a:lnTo>
                    <a:pt x="79" y="769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1089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3009960" y="456624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0" y="226"/>
                  </a:moveTo>
                  <a:lnTo>
                    <a:pt x="0" y="226"/>
                  </a:lnTo>
                  <a:lnTo>
                    <a:pt x="79" y="225"/>
                  </a:lnTo>
                  <a:lnTo>
                    <a:pt x="157" y="222"/>
                  </a:lnTo>
                  <a:lnTo>
                    <a:pt x="234" y="217"/>
                  </a:lnTo>
                  <a:lnTo>
                    <a:pt x="311" y="210"/>
                  </a:lnTo>
                  <a:lnTo>
                    <a:pt x="385" y="201"/>
                  </a:lnTo>
                  <a:lnTo>
                    <a:pt x="457" y="192"/>
                  </a:lnTo>
                  <a:lnTo>
                    <a:pt x="529" y="179"/>
                  </a:lnTo>
                  <a:lnTo>
                    <a:pt x="599" y="165"/>
                  </a:lnTo>
                  <a:lnTo>
                    <a:pt x="667" y="149"/>
                  </a:lnTo>
                  <a:lnTo>
                    <a:pt x="733" y="134"/>
                  </a:lnTo>
                  <a:lnTo>
                    <a:pt x="798" y="114"/>
                  </a:lnTo>
                  <a:lnTo>
                    <a:pt x="860" y="94"/>
                  </a:lnTo>
                  <a:lnTo>
                    <a:pt x="921" y="73"/>
                  </a:lnTo>
                  <a:lnTo>
                    <a:pt x="979" y="50"/>
                  </a:lnTo>
                  <a:lnTo>
                    <a:pt x="1035" y="27"/>
                  </a:lnTo>
                  <a:lnTo>
                    <a:pt x="1089" y="0"/>
                  </a:lnTo>
                  <a:lnTo>
                    <a:pt x="1089" y="385"/>
                  </a:lnTo>
                  <a:lnTo>
                    <a:pt x="1089" y="385"/>
                  </a:lnTo>
                  <a:lnTo>
                    <a:pt x="1035" y="411"/>
                  </a:lnTo>
                  <a:lnTo>
                    <a:pt x="979" y="435"/>
                  </a:lnTo>
                  <a:lnTo>
                    <a:pt x="921" y="457"/>
                  </a:lnTo>
                  <a:lnTo>
                    <a:pt x="860" y="480"/>
                  </a:lnTo>
                  <a:lnTo>
                    <a:pt x="798" y="499"/>
                  </a:lnTo>
                  <a:lnTo>
                    <a:pt x="733" y="518"/>
                  </a:lnTo>
                  <a:lnTo>
                    <a:pt x="667" y="535"/>
                  </a:lnTo>
                  <a:lnTo>
                    <a:pt x="599" y="550"/>
                  </a:lnTo>
                  <a:lnTo>
                    <a:pt x="529" y="564"/>
                  </a:lnTo>
                  <a:lnTo>
                    <a:pt x="457" y="576"/>
                  </a:lnTo>
                  <a:lnTo>
                    <a:pt x="385" y="587"/>
                  </a:lnTo>
                  <a:lnTo>
                    <a:pt x="311" y="595"/>
                  </a:lnTo>
                  <a:lnTo>
                    <a:pt x="234" y="601"/>
                  </a:lnTo>
                  <a:lnTo>
                    <a:pt x="157" y="606"/>
                  </a:lnTo>
                  <a:lnTo>
                    <a:pt x="79" y="609"/>
                  </a:lnTo>
                  <a:lnTo>
                    <a:pt x="0" y="61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195"/>
          <p:cNvGrpSpPr/>
          <p:nvPr/>
        </p:nvGrpSpPr>
        <p:grpSpPr>
          <a:xfrm>
            <a:off x="1457280" y="3559320"/>
            <a:ext cx="1387440" cy="1469520"/>
            <a:chOff x="1457280" y="3559320"/>
            <a:chExt cx="1387440" cy="1469520"/>
          </a:xfrm>
        </p:grpSpPr>
        <p:sp>
          <p:nvSpPr>
            <p:cNvPr id="97" name="Freeform 32"/>
            <p:cNvSpPr/>
            <p:nvPr/>
          </p:nvSpPr>
          <p:spPr>
            <a:xfrm>
              <a:off x="1457280" y="355932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0" y="544"/>
                  </a:moveTo>
                  <a:lnTo>
                    <a:pt x="0" y="544"/>
                  </a:lnTo>
                  <a:lnTo>
                    <a:pt x="54" y="571"/>
                  </a:lnTo>
                  <a:lnTo>
                    <a:pt x="110" y="594"/>
                  </a:lnTo>
                  <a:lnTo>
                    <a:pt x="168" y="617"/>
                  </a:lnTo>
                  <a:lnTo>
                    <a:pt x="229" y="638"/>
                  </a:lnTo>
                  <a:lnTo>
                    <a:pt x="291" y="658"/>
                  </a:lnTo>
                  <a:lnTo>
                    <a:pt x="356" y="678"/>
                  </a:lnTo>
                  <a:lnTo>
                    <a:pt x="422" y="693"/>
                  </a:lnTo>
                  <a:lnTo>
                    <a:pt x="490" y="709"/>
                  </a:lnTo>
                  <a:lnTo>
                    <a:pt x="560" y="723"/>
                  </a:lnTo>
                  <a:lnTo>
                    <a:pt x="632" y="736"/>
                  </a:lnTo>
                  <a:lnTo>
                    <a:pt x="704" y="745"/>
                  </a:lnTo>
                  <a:lnTo>
                    <a:pt x="778" y="754"/>
                  </a:lnTo>
                  <a:lnTo>
                    <a:pt x="855" y="761"/>
                  </a:lnTo>
                  <a:lnTo>
                    <a:pt x="932" y="766"/>
                  </a:lnTo>
                  <a:lnTo>
                    <a:pt x="1010" y="769"/>
                  </a:lnTo>
                  <a:lnTo>
                    <a:pt x="1089" y="770"/>
                  </a:lnTo>
                  <a:lnTo>
                    <a:pt x="1089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457280" y="425196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1089" y="226"/>
                  </a:moveTo>
                  <a:lnTo>
                    <a:pt x="1089" y="226"/>
                  </a:lnTo>
                  <a:lnTo>
                    <a:pt x="1010" y="225"/>
                  </a:lnTo>
                  <a:lnTo>
                    <a:pt x="932" y="222"/>
                  </a:lnTo>
                  <a:lnTo>
                    <a:pt x="855" y="217"/>
                  </a:lnTo>
                  <a:lnTo>
                    <a:pt x="778" y="210"/>
                  </a:lnTo>
                  <a:lnTo>
                    <a:pt x="704" y="201"/>
                  </a:lnTo>
                  <a:lnTo>
                    <a:pt x="632" y="192"/>
                  </a:lnTo>
                  <a:lnTo>
                    <a:pt x="560" y="179"/>
                  </a:lnTo>
                  <a:lnTo>
                    <a:pt x="490" y="165"/>
                  </a:lnTo>
                  <a:lnTo>
                    <a:pt x="422" y="149"/>
                  </a:lnTo>
                  <a:lnTo>
                    <a:pt x="356" y="134"/>
                  </a:lnTo>
                  <a:lnTo>
                    <a:pt x="291" y="114"/>
                  </a:lnTo>
                  <a:lnTo>
                    <a:pt x="229" y="94"/>
                  </a:lnTo>
                  <a:lnTo>
                    <a:pt x="168" y="73"/>
                  </a:lnTo>
                  <a:lnTo>
                    <a:pt x="110" y="50"/>
                  </a:lnTo>
                  <a:lnTo>
                    <a:pt x="54" y="27"/>
                  </a:lnTo>
                  <a:lnTo>
                    <a:pt x="0" y="0"/>
                  </a:lnTo>
                  <a:lnTo>
                    <a:pt x="0" y="385"/>
                  </a:lnTo>
                  <a:lnTo>
                    <a:pt x="0" y="385"/>
                  </a:lnTo>
                  <a:lnTo>
                    <a:pt x="54" y="411"/>
                  </a:lnTo>
                  <a:lnTo>
                    <a:pt x="110" y="435"/>
                  </a:lnTo>
                  <a:lnTo>
                    <a:pt x="168" y="457"/>
                  </a:lnTo>
                  <a:lnTo>
                    <a:pt x="229" y="480"/>
                  </a:lnTo>
                  <a:lnTo>
                    <a:pt x="291" y="499"/>
                  </a:lnTo>
                  <a:lnTo>
                    <a:pt x="356" y="518"/>
                  </a:lnTo>
                  <a:lnTo>
                    <a:pt x="422" y="535"/>
                  </a:lnTo>
                  <a:lnTo>
                    <a:pt x="490" y="550"/>
                  </a:lnTo>
                  <a:lnTo>
                    <a:pt x="560" y="564"/>
                  </a:lnTo>
                  <a:lnTo>
                    <a:pt x="632" y="576"/>
                  </a:lnTo>
                  <a:lnTo>
                    <a:pt x="704" y="587"/>
                  </a:lnTo>
                  <a:lnTo>
                    <a:pt x="778" y="595"/>
                  </a:lnTo>
                  <a:lnTo>
                    <a:pt x="855" y="601"/>
                  </a:lnTo>
                  <a:lnTo>
                    <a:pt x="932" y="606"/>
                  </a:lnTo>
                  <a:lnTo>
                    <a:pt x="1010" y="609"/>
                  </a:lnTo>
                  <a:lnTo>
                    <a:pt x="1089" y="610"/>
                  </a:lnTo>
                  <a:lnTo>
                    <a:pt x="1089" y="226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4"/>
          <p:cNvSpPr/>
          <p:nvPr/>
        </p:nvSpPr>
        <p:spPr>
          <a:xfrm>
            <a:off x="6058080" y="2576520"/>
            <a:ext cx="2355840" cy="223344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936880" y="44085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800520" y="37670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297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936880" y="2676600"/>
            <a:ext cx="75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1965240" y="2759040"/>
            <a:ext cx="7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822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955800" y="365112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711440" y="4127400"/>
            <a:ext cx="11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6216480" y="28116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47680" y="2349360"/>
            <a:ext cx="2430720" cy="2432160"/>
          </a:xfrm>
          <a:prstGeom prst="ellipse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1722600" y="2646360"/>
            <a:ext cx="49212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800" y="2313000"/>
            <a:ext cx="718920" cy="1440"/>
            <a:chOff x="4357800" y="2313000"/>
            <a:chExt cx="718920" cy="1440"/>
          </a:xfrm>
        </p:grpSpPr>
        <p:sp>
          <p:nvSpPr>
            <p:cNvPr id="115" name="Line 9"/>
            <p:cNvSpPr/>
            <p:nvPr/>
          </p:nvSpPr>
          <p:spPr>
            <a:xfrm>
              <a:off x="4357800" y="2313000"/>
              <a:ext cx="718920" cy="1440"/>
            </a:xfrm>
            <a:prstGeom prst="line">
              <a:avLst/>
            </a:prstGeom>
            <a:ln cap="rnd" w="38160">
              <a:solidFill>
                <a:srgbClr val="809761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57800" y="231300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5113440" y="21718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9761"/>
                </a:solidFill>
                <a:latin typeface="Arial Black"/>
                <a:ea typeface="Arial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13440" y="29034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704d2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57800" y="3141720"/>
            <a:ext cx="718920" cy="1440"/>
            <a:chOff x="4357800" y="3141720"/>
            <a:chExt cx="718920" cy="1440"/>
          </a:xfrm>
        </p:grpSpPr>
        <p:sp>
          <p:nvSpPr>
            <p:cNvPr id="120" name="Line 14"/>
            <p:cNvSpPr/>
            <p:nvPr/>
          </p:nvSpPr>
          <p:spPr>
            <a:xfrm>
              <a:off x="4357800" y="3141720"/>
              <a:ext cx="718920" cy="1440"/>
            </a:xfrm>
            <a:prstGeom prst="line">
              <a:avLst/>
            </a:prstGeom>
            <a:ln cap="rnd" w="38160">
              <a:solidFill>
                <a:srgbClr val="704d2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357800" y="314172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57800" y="3968640"/>
            <a:ext cx="718920" cy="360"/>
            <a:chOff x="4357800" y="3968640"/>
            <a:chExt cx="718920" cy="360"/>
          </a:xfrm>
        </p:grpSpPr>
        <p:sp>
          <p:nvSpPr>
            <p:cNvPr id="123" name="Line 15"/>
            <p:cNvSpPr/>
            <p:nvPr/>
          </p:nvSpPr>
          <p:spPr>
            <a:xfrm>
              <a:off x="4357800" y="3968640"/>
              <a:ext cx="718920" cy="0"/>
            </a:xfrm>
            <a:prstGeom prst="line">
              <a:avLst/>
            </a:prstGeom>
            <a:ln cap="rnd" w="38160">
              <a:solidFill>
                <a:srgbClr val="1b120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357800" y="3968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57800" y="4797360"/>
            <a:ext cx="718920" cy="360"/>
            <a:chOff x="4357800" y="4797360"/>
            <a:chExt cx="718920" cy="360"/>
          </a:xfrm>
        </p:grpSpPr>
        <p:sp>
          <p:nvSpPr>
            <p:cNvPr id="126" name="Line 16"/>
            <p:cNvSpPr/>
            <p:nvPr/>
          </p:nvSpPr>
          <p:spPr>
            <a:xfrm>
              <a:off x="4357800" y="4797360"/>
              <a:ext cx="718920" cy="0"/>
            </a:xfrm>
            <a:prstGeom prst="line">
              <a:avLst/>
            </a:prstGeom>
            <a:ln cap="rnd" w="38160">
              <a:solidFill>
                <a:srgbClr val="bf8967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57800" y="479736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ordArt 18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1403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5113440" y="45975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924f1b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3440" y="37735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1b120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rcRect l="2240" t="5927" r="15001" b="6445"/>
          <a:stretch/>
        </p:blipFill>
        <p:spPr>
          <a:xfrm>
            <a:off x="0" y="1917720"/>
            <a:ext cx="4940280" cy="3487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35" name="矩形 4"/>
          <p:cNvSpPr/>
          <p:nvPr/>
        </p:nvSpPr>
        <p:spPr>
          <a:xfrm rot="21297000">
            <a:off x="5595840" y="1633320"/>
            <a:ext cx="3313080" cy="363348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21166800">
            <a:off x="5878440" y="1786680"/>
            <a:ext cx="25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0121 0.00231 -0.00191 0.00509 -0.00347 0.00694 C -0.00486 0.00856 -0.00746 0.00741 -0.00868 0.00926 C -0.02153 0.03055 0.000870000000000001 0.00856 -0.01562 0.02315 C -0.01736 0.02616 -0.01788 0.03125 -0.02066 0.03217 C -0.02239 0.03264 -0.02239 0.02778 -0.02239 0.02523 C -0.02239 0.02129 -0.02187 0.01736 -0.02066 0.01389 C -0.01892 0.00879 -0.01614 0.00463 -0.01389 -1.85185E-006 C -0.01284 -0.00209 -0.01337 -0.00509 -0.01215 -0.00695 C -0.01093 -0.00903 -0.00868 -0.00996 -0.00694 -0.01134 C -0.00642 -0.00903 -0.00607 -0.00671 -0.00521 -0.00463 C -0.00434 -0.00209 -0.0026 -0.00023 -0.00173 0.00231 C 0.00486 0.02315 -0.00642 -0.000459999999999999 0.00504 0.02083 C 0.00764 0.03125 0.01268 0.03565 0.00347 0.0368 C -0.00052 0.03727 -0.00468 0.0368 -0.00868 0.0368 E">
                                      <p:cBhvr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158920" y="1413000"/>
            <a:ext cx="4826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12:00Z</dcterms:created>
  <dc:creator>Administrator</dc:creator>
  <dc:description/>
  <dc:language>en-US</dc:language>
  <cp:lastModifiedBy>Administrator</cp:lastModifiedBy>
  <dcterms:modified xsi:type="dcterms:W3CDTF">2017-04-10T07:46:11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