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39F-C826-42D4-98B3-7016ACDC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B0A-3C13-4250-A053-AB1133F2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6F3-3426-41C6-AD76-4DD8B54E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78A-0CA7-4FAA-BA34-91C36FC9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363-8693-4245-B9C7-89E246F3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37C-E3F6-42E0-A26D-E8C75838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522-DC13-483C-A6C9-1553FDB6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F6F-BEFF-4C42-96C7-9A3231E2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688-BA42-4A57-91A6-0618DFF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D5E-DB07-45D5-A9F4-72E8FBAB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6ED-D22A-4D12-8F86-FD9194C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D2B-F716-47DB-9291-E5374BB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ADF0-2A62-4609-ADE1-FE0ED9A8607E}" type="datetime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4D61-D3E5-4ED2-B8F4-A600A23A8408}" type="slidenum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76320" y="2928960"/>
            <a:ext cx="2703600" cy="27622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6"/>
          <p:cNvGrpSpPr/>
          <p:nvPr/>
        </p:nvGrpSpPr>
        <p:grpSpPr>
          <a:xfrm>
            <a:off x="6979680" y="547920"/>
            <a:ext cx="1264320" cy="3086640"/>
            <a:chOff x="6979680" y="547920"/>
            <a:chExt cx="1264320" cy="3086640"/>
          </a:xfrm>
        </p:grpSpPr>
        <p:sp>
          <p:nvSpPr>
            <p:cNvPr id="43" name="TextBox 1"/>
            <p:cNvSpPr/>
            <p:nvPr/>
          </p:nvSpPr>
          <p:spPr>
            <a:xfrm>
              <a:off x="7482240" y="554040"/>
              <a:ext cx="76176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2d1410"/>
                  </a:solidFill>
                  <a:latin typeface="华康俪金黑W8"/>
                </a:rPr>
                <a:t>苏东坡传</a:t>
              </a:r>
              <a:endParaRPr b="0" lang="en-US" sz="49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 rot="5400000">
              <a:off x="6001200" y="15260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1410"/>
                  </a:solidFill>
                  <a:latin typeface="Bell MT"/>
                  <a:ea typeface="BatangChe"/>
                </a:rPr>
                <a:t>The Gay Genius</a:t>
              </a:r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45" name="组合 15"/>
          <p:cNvGrpSpPr/>
          <p:nvPr/>
        </p:nvGrpSpPr>
        <p:grpSpPr>
          <a:xfrm>
            <a:off x="4299120" y="1778040"/>
            <a:ext cx="560160" cy="3209400"/>
            <a:chOff x="4299120" y="1778040"/>
            <a:chExt cx="560160" cy="3209400"/>
          </a:xfrm>
        </p:grpSpPr>
        <p:sp>
          <p:nvSpPr>
            <p:cNvPr id="46" name="TextBox 3"/>
            <p:cNvSpPr/>
            <p:nvPr/>
          </p:nvSpPr>
          <p:spPr>
            <a:xfrm>
              <a:off x="4299120" y="1778040"/>
              <a:ext cx="560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林语堂</a:t>
              </a:r>
              <a:endParaRPr b="0" lang="en-US" sz="32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7" name="矩形 6"/>
            <p:cNvSpPr/>
            <p:nvPr/>
          </p:nvSpPr>
          <p:spPr>
            <a:xfrm>
              <a:off x="4460040" y="3341880"/>
              <a:ext cx="237960" cy="16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著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张振玉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译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8" name="文本框 1"/>
          <p:cNvSpPr/>
          <p:nvPr/>
        </p:nvSpPr>
        <p:spPr>
          <a:xfrm>
            <a:off x="3348000" y="141768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tenci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3"/>
          <p:cNvGrpSpPr/>
          <p:nvPr/>
        </p:nvGrpSpPr>
        <p:grpSpPr>
          <a:xfrm>
            <a:off x="2081520" y="1319760"/>
            <a:ext cx="4511880" cy="3974400"/>
            <a:chOff x="2081520" y="1319760"/>
            <a:chExt cx="4511880" cy="3974400"/>
          </a:xfrm>
        </p:grpSpPr>
        <p:grpSp>
          <p:nvGrpSpPr>
            <p:cNvPr id="145" name="组合 4"/>
            <p:cNvGrpSpPr/>
            <p:nvPr/>
          </p:nvGrpSpPr>
          <p:grpSpPr>
            <a:xfrm>
              <a:off x="2081520" y="1319760"/>
              <a:ext cx="4511880" cy="3974400"/>
              <a:chOff x="2081520" y="1319760"/>
              <a:chExt cx="4511880" cy="3974400"/>
            </a:xfrm>
          </p:grpSpPr>
          <p:pic>
            <p:nvPicPr>
              <p:cNvPr id="1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5040" y="1488960"/>
                <a:ext cx="3750120" cy="380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Box 7"/>
              <p:cNvSpPr/>
              <p:nvPr/>
            </p:nvSpPr>
            <p:spPr>
              <a:xfrm rot="1140000">
                <a:off x="2824560" y="3908520"/>
                <a:ext cx="1254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豁达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天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 rot="1123800">
                <a:off x="3994200" y="1837440"/>
                <a:ext cx="24091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作品给人  带来快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 rot="21540000">
                <a:off x="5660640" y="25635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坚持己见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0" name="TextBox 10"/>
              <p:cNvSpPr/>
              <p:nvPr/>
            </p:nvSpPr>
            <p:spPr>
              <a:xfrm rot="1140000">
                <a:off x="2185560" y="2684880"/>
                <a:ext cx="3114000" cy="11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人格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的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刚正不阿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1" name="TextBox 11"/>
              <p:cNvSpPr/>
              <p:nvPr/>
            </p:nvSpPr>
            <p:spPr>
              <a:xfrm rot="21540000">
                <a:off x="5662440" y="3726720"/>
                <a:ext cx="6595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平易近人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2" name="矩形 12"/>
              <p:cNvSpPr/>
              <p:nvPr/>
            </p:nvSpPr>
            <p:spPr>
              <a:xfrm rot="1020000">
                <a:off x="3962520" y="4155480"/>
                <a:ext cx="4399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宠辱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不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3" name="矩形 13"/>
              <p:cNvSpPr/>
              <p:nvPr/>
            </p:nvSpPr>
            <p:spPr>
              <a:xfrm rot="1140000">
                <a:off x="2051280" y="2048040"/>
                <a:ext cx="457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诗文书画艺术上的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卓绝之美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4" name="TextBox 14"/>
              <p:cNvSpPr/>
              <p:nvPr/>
            </p:nvSpPr>
            <p:spPr>
              <a:xfrm rot="21540000">
                <a:off x="4785480" y="28936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无所畏惧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</p:grpSp>
        <p:sp>
          <p:nvSpPr>
            <p:cNvPr id="155" name="TextBox 5"/>
            <p:cNvSpPr/>
            <p:nvPr/>
          </p:nvSpPr>
          <p:spPr>
            <a:xfrm rot="21540000">
              <a:off x="4820760" y="4087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华康俪金黑W8"/>
                </a:rPr>
                <a:t>浩然正气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5398920" y="36684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</a:rPr>
              <a:t>苏东坡魔方矢量图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20"/>
          <p:cNvSpPr/>
          <p:nvPr/>
        </p:nvSpPr>
        <p:spPr>
          <a:xfrm>
            <a:off x="4716360" y="1778040"/>
            <a:ext cx="2159280" cy="21589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d1410"/>
                </a:solidFill>
                <a:latin typeface="微软雅黑"/>
                <a:ea typeface="微软雅黑"/>
              </a:rPr>
              <a:t>谢谢</a:t>
            </a:r>
            <a:endParaRPr b="0" lang="en-US" sz="21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1979640" y="1417680"/>
            <a:ext cx="2879640" cy="287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1692360" y="292572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微软雅黑"/>
                <a:ea typeface="微软雅黑"/>
              </a:rPr>
              <a:t>思想的欢乐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419640" y="2925720"/>
            <a:ext cx="143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微软雅黑"/>
                <a:ea typeface="微软雅黑"/>
              </a:rPr>
              <a:t>心灵的喜悦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826920" y="244152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1410"/>
                </a:solidFill>
                <a:latin typeface="微软雅黑"/>
                <a:ea typeface="微软雅黑"/>
              </a:rPr>
              <a:t>他们都给我们带来了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2" name="直接连接符 3"/>
          <p:cNvSpPr/>
          <p:nvPr/>
        </p:nvSpPr>
        <p:spPr>
          <a:xfrm>
            <a:off x="2138400" y="2879640"/>
            <a:ext cx="251928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64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5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6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pic>
        <p:nvPicPr>
          <p:cNvPr id="167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72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7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7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53964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为何写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传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270036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所理解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859280" y="2425680"/>
            <a:ext cx="14414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式魔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7020000" y="2425680"/>
            <a:ext cx="14396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4" name="矩形 30"/>
          <p:cNvSpPr/>
          <p:nvPr/>
        </p:nvSpPr>
        <p:spPr>
          <a:xfrm>
            <a:off x="971640" y="33660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5" name="椭圆 33"/>
          <p:cNvSpPr/>
          <p:nvPr/>
        </p:nvSpPr>
        <p:spPr>
          <a:xfrm>
            <a:off x="90000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6" name="椭圆 34"/>
          <p:cNvSpPr/>
          <p:nvPr/>
        </p:nvSpPr>
        <p:spPr>
          <a:xfrm>
            <a:off x="306072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7" name="椭圆 35"/>
          <p:cNvSpPr/>
          <p:nvPr/>
        </p:nvSpPr>
        <p:spPr>
          <a:xfrm>
            <a:off x="521964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8" name="椭圆 36"/>
          <p:cNvSpPr/>
          <p:nvPr/>
        </p:nvSpPr>
        <p:spPr>
          <a:xfrm>
            <a:off x="738036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509400" y="409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目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  录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1773720" y="339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林语堂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为什么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写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传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2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3" name="椭圆 2"/>
          <p:cNvSpPr/>
          <p:nvPr/>
        </p:nvSpPr>
        <p:spPr>
          <a:xfrm>
            <a:off x="1332000" y="2496960"/>
            <a:ext cx="2160360" cy="216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cebb5"/>
                </a:solidFill>
                <a:latin typeface="Stencil"/>
              </a:rPr>
              <a:t>乐</a:t>
            </a:r>
            <a:endParaRPr b="0" lang="en-US" sz="9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187280" y="15224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以</a:t>
            </a:r>
            <a:r>
              <a:rPr b="0" lang="zh-CN" sz="4800" spc="-1" strike="noStrike">
                <a:solidFill>
                  <a:srgbClr val="2d1410"/>
                </a:solidFill>
                <a:latin typeface="Stencil"/>
              </a:rPr>
              <a:t>此</a:t>
            </a: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5653080" y="2496960"/>
            <a:ext cx="2158920" cy="21607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508720" y="2419200"/>
            <a:ext cx="13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6588000" y="3354480"/>
            <a:ext cx="13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力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435640" y="141768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向人们描绘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式的迷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726200" y="3366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1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2" name="椭圆 5"/>
          <p:cNvSpPr/>
          <p:nvPr/>
        </p:nvSpPr>
        <p:spPr>
          <a:xfrm>
            <a:off x="2411280" y="1201680"/>
            <a:ext cx="4319640" cy="431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3" name="直接连接符 9"/>
          <p:cNvSpPr/>
          <p:nvPr/>
        </p:nvSpPr>
        <p:spPr>
          <a:xfrm>
            <a:off x="2411280" y="3360600"/>
            <a:ext cx="4319640" cy="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4" name="直接连接符 31"/>
          <p:cNvSpPr/>
          <p:nvPr/>
        </p:nvSpPr>
        <p:spPr>
          <a:xfrm>
            <a:off x="4572000" y="1201680"/>
            <a:ext cx="0" cy="431964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3044880" y="183348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6" name="直接连接符 38"/>
          <p:cNvSpPr/>
          <p:nvPr/>
        </p:nvSpPr>
        <p:spPr>
          <a:xfrm flipV="1">
            <a:off x="3044880" y="183312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7" name="矩形 39"/>
          <p:cNvSpPr/>
          <p:nvPr/>
        </p:nvSpPr>
        <p:spPr>
          <a:xfrm rot="17640000">
            <a:off x="4645440" y="13705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秉性难改的乐天派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8" name="矩形 41"/>
          <p:cNvSpPr/>
          <p:nvPr/>
        </p:nvSpPr>
        <p:spPr>
          <a:xfrm rot="19934400">
            <a:off x="5684400" y="2324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伟大的人道主义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9" name="矩形 42"/>
          <p:cNvSpPr/>
          <p:nvPr/>
        </p:nvSpPr>
        <p:spPr>
          <a:xfrm rot="4100400">
            <a:off x="3436200" y="156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百姓的好朋友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0" name="矩形 50"/>
          <p:cNvSpPr/>
          <p:nvPr/>
        </p:nvSpPr>
        <p:spPr>
          <a:xfrm rot="19813200">
            <a:off x="2747880" y="365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皇帝的秘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士大夫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1" name="矩形 55"/>
          <p:cNvSpPr/>
          <p:nvPr/>
        </p:nvSpPr>
        <p:spPr>
          <a:xfrm rot="17403600">
            <a:off x="3576240" y="448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月下的漫步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2" name="矩形 62"/>
          <p:cNvSpPr/>
          <p:nvPr/>
        </p:nvSpPr>
        <p:spPr>
          <a:xfrm rot="2071200">
            <a:off x="-1738800" y="10126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大文豪、大书法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创新的画家、造酒试验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3" name="矩形 69"/>
          <p:cNvSpPr/>
          <p:nvPr/>
        </p:nvSpPr>
        <p:spPr>
          <a:xfrm rot="3732000">
            <a:off x="4872960" y="438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诗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4" name="饼形 71"/>
          <p:cNvSpPr/>
          <p:nvPr/>
        </p:nvSpPr>
        <p:spPr>
          <a:xfrm>
            <a:off x="2411280" y="1201680"/>
            <a:ext cx="4319640" cy="4319640"/>
          </a:xfrm>
          <a:custGeom>
            <a:avLst/>
            <a:gdLst/>
            <a:ahLst/>
            <a:rect l="l" t="t" r="r" b="b"/>
            <a:pathLst>
              <a:path w="4319587" h="4319587">
                <a:moveTo>
                  <a:pt x="4319587" y="2159793"/>
                </a:moveTo>
                <a:cubicBezTo>
                  <a:pt x="4319587" y="2755260"/>
                  <a:pt x="4078608" y="3294444"/>
                  <a:pt x="3688851" y="3685142"/>
                </a:cubicBezTo>
                <a:lnTo>
                  <a:pt x="2159793" y="2159793"/>
                </a:lnTo>
                <a:close/>
              </a:path>
            </a:pathLst>
          </a:cu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5" name="椭圆 73"/>
          <p:cNvSpPr/>
          <p:nvPr/>
        </p:nvSpPr>
        <p:spPr>
          <a:xfrm>
            <a:off x="4033800" y="2822400"/>
            <a:ext cx="1081080" cy="1079640"/>
          </a:xfrm>
          <a:prstGeom prst="ellipse">
            <a:avLst/>
          </a:prstGeom>
          <a:solidFill>
            <a:srgbClr val="ecebb5"/>
          </a:solidFill>
          <a:ln w="190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6" name="TextBox 74"/>
          <p:cNvSpPr/>
          <p:nvPr/>
        </p:nvSpPr>
        <p:spPr>
          <a:xfrm>
            <a:off x="5148360" y="48751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这些都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不足以</a:t>
            </a: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勾绘出他的全貌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7" name="TextBox 75"/>
          <p:cNvSpPr/>
          <p:nvPr/>
        </p:nvSpPr>
        <p:spPr>
          <a:xfrm rot="1850400">
            <a:off x="5181480" y="39607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更多称呼   </a:t>
            </a:r>
            <a:r>
              <a:rPr b="0" lang="en-US" sz="1800" spc="-1" strike="noStrike">
                <a:solidFill>
                  <a:srgbClr val="9d8b67"/>
                </a:solidFill>
                <a:latin typeface="Stenci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1" name="TextBox 13" descr=""/>
          <p:cNvPicPr/>
          <p:nvPr/>
        </p:nvPicPr>
        <p:blipFill>
          <a:blip r:embed="rId1"/>
          <a:stretch/>
        </p:blipFill>
        <p:spPr>
          <a:xfrm>
            <a:off x="-27000" y="1560600"/>
            <a:ext cx="1359000" cy="3139920"/>
          </a:xfrm>
          <a:prstGeom prst="rect">
            <a:avLst/>
          </a:prstGeom>
          <a:ln w="0">
            <a:noFill/>
          </a:ln>
        </p:spPr>
      </p:pic>
      <p:pic>
        <p:nvPicPr>
          <p:cNvPr id="92" name="组合 11" descr=""/>
          <p:cNvPicPr/>
          <p:nvPr/>
        </p:nvPicPr>
        <p:blipFill>
          <a:blip r:embed="rId2"/>
          <a:stretch/>
        </p:blipFill>
        <p:spPr>
          <a:xfrm>
            <a:off x="598320" y="1547640"/>
            <a:ext cx="3181680" cy="3181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0"/>
          <p:cNvSpPr/>
          <p:nvPr/>
        </p:nvSpPr>
        <p:spPr>
          <a:xfrm>
            <a:off x="2557440" y="2631960"/>
            <a:ext cx="646200" cy="36828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诙谐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直接连接符 5"/>
          <p:cNvSpPr/>
          <p:nvPr/>
        </p:nvSpPr>
        <p:spPr>
          <a:xfrm>
            <a:off x="755640" y="3105000"/>
            <a:ext cx="287964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直接连接符 22"/>
          <p:cNvSpPr/>
          <p:nvPr/>
        </p:nvSpPr>
        <p:spPr>
          <a:xfrm>
            <a:off x="1258920" y="242568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6" name="直接连接符 26"/>
          <p:cNvSpPr/>
          <p:nvPr/>
        </p:nvSpPr>
        <p:spPr>
          <a:xfrm>
            <a:off x="1258920" y="379404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7" name="椭圆 37"/>
          <p:cNvSpPr/>
          <p:nvPr/>
        </p:nvSpPr>
        <p:spPr>
          <a:xfrm>
            <a:off x="7164360" y="2209680"/>
            <a:ext cx="1800360" cy="1800360"/>
          </a:xfrm>
          <a:prstGeom prst="ellipse">
            <a:avLst/>
          </a:prstGeom>
          <a:solidFill>
            <a:srgbClr val="2d14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195640" y="2235240"/>
            <a:ext cx="6406920" cy="4006800"/>
          </a:xfrm>
          <a:prstGeom prst="rect">
            <a:avLst/>
          </a:prstGeom>
          <a:ln w="0">
            <a:noFill/>
          </a:ln>
        </p:spPr>
      </p:pic>
      <p:sp>
        <p:nvSpPr>
          <p:cNvPr id="99" name="直接连接符 42"/>
          <p:cNvSpPr/>
          <p:nvPr/>
        </p:nvSpPr>
        <p:spPr>
          <a:xfrm>
            <a:off x="7380360" y="3105000"/>
            <a:ext cx="143964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0" name="TextBox 2050"/>
          <p:cNvSpPr/>
          <p:nvPr/>
        </p:nvSpPr>
        <p:spPr>
          <a:xfrm>
            <a:off x="7348680" y="26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Stencil"/>
              </a:rPr>
              <a:t>耶稣的比喻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1" name="TextBox 2051"/>
          <p:cNvSpPr/>
          <p:nvPr/>
        </p:nvSpPr>
        <p:spPr>
          <a:xfrm>
            <a:off x="7236000" y="336240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蛇的智慧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7236000" y="314496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鸽子的温文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5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203480" y="193680"/>
            <a:ext cx="6194160" cy="5327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835280" y="2065320"/>
            <a:ext cx="513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在中国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一提到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总会引起我们亲切敬佩的   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微笑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799280" y="3398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的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式 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魔</a:t>
            </a:r>
            <a:r>
              <a:rPr b="0" i="1" lang="zh-CN" sz="1800" spc="-1" strike="noStrike">
                <a:solidFill>
                  <a:srgbClr val="9d8b67"/>
                </a:solidFill>
                <a:latin typeface="Stencil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788000" y="170496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自有其迷人魔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就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魔力之在女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美丽芬芳之在花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是</a:t>
            </a: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易于感觉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而难于说明的！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8226360" y="1849320"/>
            <a:ext cx="0" cy="72072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8226360" y="3649680"/>
            <a:ext cx="0" cy="71928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91640" y="265428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林语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5440" y="1344600"/>
            <a:ext cx="4084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716480" y="41112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林语堂  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与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8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976320" y="1344600"/>
            <a:ext cx="719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1410"/>
                </a:solidFill>
                <a:latin typeface="Stencil"/>
              </a:rPr>
              <a:t>       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知道一个人，或不知道一个人，于他是否为同代人，没有关系。主要的倒是对他是否有同情的了解。归根结底，我们只能知道自己真正了解的人，我们只能了解我们真正喜欢的人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755640" y="1344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940360" y="2136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122" name="组合 16"/>
          <p:cNvGrpSpPr/>
          <p:nvPr/>
        </p:nvGrpSpPr>
        <p:grpSpPr>
          <a:xfrm>
            <a:off x="1116000" y="3433680"/>
            <a:ext cx="2735280" cy="1793880"/>
            <a:chOff x="1116000" y="3433680"/>
            <a:chExt cx="2735280" cy="1793880"/>
          </a:xfrm>
        </p:grpSpPr>
        <p:sp>
          <p:nvSpPr>
            <p:cNvPr id="123" name="椭圆 4"/>
            <p:cNvSpPr/>
            <p:nvPr/>
          </p:nvSpPr>
          <p:spPr>
            <a:xfrm>
              <a:off x="1116000" y="3433680"/>
              <a:ext cx="1763640" cy="1764000"/>
            </a:xfrm>
            <a:prstGeom prst="ellipse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4" name="椭圆 12"/>
            <p:cNvSpPr/>
            <p:nvPr/>
          </p:nvSpPr>
          <p:spPr>
            <a:xfrm>
              <a:off x="2087640" y="3463560"/>
              <a:ext cx="1763640" cy="1764000"/>
            </a:xfrm>
            <a:prstGeom prst="ellipse">
              <a:avLst/>
            </a:prstGeom>
            <a:solidFill>
              <a:srgbClr val="9d8b6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5" name="TextBox 5"/>
            <p:cNvSpPr/>
            <p:nvPr/>
          </p:nvSpPr>
          <p:spPr>
            <a:xfrm>
              <a:off x="2879640" y="400968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cebb5"/>
                  </a:solidFill>
                  <a:latin typeface="Stencil"/>
                </a:rPr>
                <a:t>古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6" name="TextBox 14"/>
            <p:cNvSpPr/>
            <p:nvPr/>
          </p:nvSpPr>
          <p:spPr>
            <a:xfrm>
              <a:off x="1253160" y="400968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d8b67"/>
                  </a:solidFill>
                  <a:latin typeface="Stencil"/>
                </a:rPr>
                <a:t>现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7" name="TextBox 11"/>
            <p:cNvSpPr/>
            <p:nvPr/>
          </p:nvSpPr>
          <p:spPr>
            <a:xfrm>
              <a:off x="2274480" y="3673440"/>
              <a:ext cx="38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</a:rPr>
                <a:t>惺惺相惜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128" name="组合 15"/>
          <p:cNvGrpSpPr/>
          <p:nvPr/>
        </p:nvGrpSpPr>
        <p:grpSpPr>
          <a:xfrm>
            <a:off x="5219640" y="3433680"/>
            <a:ext cx="3049560" cy="1735200"/>
            <a:chOff x="5219640" y="3433680"/>
            <a:chExt cx="3049560" cy="17352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5271480" y="3505680"/>
              <a:ext cx="2935800" cy="15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圆角矩形 13"/>
            <p:cNvSpPr/>
            <p:nvPr/>
          </p:nvSpPr>
          <p:spPr>
            <a:xfrm>
              <a:off x="5219640" y="3433680"/>
              <a:ext cx="3049560" cy="1735200"/>
            </a:xfrm>
            <a:prstGeom prst="roundRect">
              <a:avLst>
                <a:gd name="adj" fmla="val 16667"/>
              </a:avLst>
            </a:prstGeom>
            <a:solidFill>
              <a:srgbClr val="9d8b67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d1410"/>
                  </a:solidFill>
                  <a:latin typeface="Arial"/>
                </a:rPr>
                <a:t>Lin yutang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2d1410"/>
                  </a:solidFill>
                  <a:latin typeface="Stencil"/>
                </a:rPr>
                <a:t>让世界</a:t>
              </a:r>
              <a:endParaRPr b="0" lang="en-US" sz="2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Stencil"/>
                </a:rPr>
                <a:t>了解了中国的</a:t>
              </a:r>
              <a:r>
                <a:rPr b="0" lang="zh-CN" sz="2000" spc="-1" strike="noStrike">
                  <a:solidFill>
                    <a:srgbClr val="ecebb5"/>
                  </a:solidFill>
                  <a:latin typeface="Stencil"/>
                </a:rPr>
                <a:t>苏东坡</a:t>
              </a:r>
              <a:r>
                <a:rPr b="0" lang="zh-CN" sz="1700" spc="-1" strike="noStrike">
                  <a:solidFill>
                    <a:srgbClr val="2d1410"/>
                  </a:solidFill>
                  <a:latin typeface="Stencil"/>
                </a:rPr>
                <a:t>！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31" name="直接连接符 17"/>
          <p:cNvSpPr/>
          <p:nvPr/>
        </p:nvSpPr>
        <p:spPr>
          <a:xfrm>
            <a:off x="971640" y="1344600"/>
            <a:ext cx="0" cy="144144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接连接符 5"/>
          <p:cNvSpPr/>
          <p:nvPr/>
        </p:nvSpPr>
        <p:spPr>
          <a:xfrm>
            <a:off x="0" y="2398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53964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为什么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写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传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270036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是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怎样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一个人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4859280" y="1677960"/>
            <a:ext cx="14414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式魔力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椭圆 13"/>
          <p:cNvSpPr/>
          <p:nvPr/>
        </p:nvSpPr>
        <p:spPr>
          <a:xfrm>
            <a:off x="7020000" y="1677960"/>
            <a:ext cx="14396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与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8172360" y="35892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8" name="矩形 30"/>
          <p:cNvSpPr/>
          <p:nvPr/>
        </p:nvSpPr>
        <p:spPr>
          <a:xfrm>
            <a:off x="6553080" y="35892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826920" y="3002040"/>
            <a:ext cx="865440" cy="1584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536">
                <a:moveTo>
                  <a:pt x="3600" y="0"/>
                </a:moveTo>
                <a:arcTo wR="3600" hR="3600" stAng="16200000" swAng="-5400000"/>
                <a:lnTo>
                  <a:pt x="0" y="35936"/>
                </a:lnTo>
                <a:arcTo wR="3600" hR="3600" stAng="10800000" swAng="-5400000"/>
                <a:lnTo>
                  <a:pt x="18000" y="39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原因有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987640" y="3029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让人亲切敬佩的微笑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514836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需要用心体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2" name="圆角矩形 16"/>
          <p:cNvSpPr/>
          <p:nvPr/>
        </p:nvSpPr>
        <p:spPr>
          <a:xfrm>
            <a:off x="730872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应该是同类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3" name="矩形 17"/>
          <p:cNvSpPr/>
          <p:nvPr/>
        </p:nvSpPr>
        <p:spPr>
          <a:xfrm>
            <a:off x="7667280" y="4334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结</a:t>
            </a: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  语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08:28:44Z</dcterms:created>
  <dc:creator/>
  <dc:description/>
  <dc:language>en-US</dc:language>
  <cp:lastModifiedBy>Administrator</cp:lastModifiedBy>
  <dcterms:modified xsi:type="dcterms:W3CDTF">2017-04-06T07:42:34Z</dcterms:modified>
  <cp:revision>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