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F1E-E66B-45D6-85AD-729B717B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A66-F733-4EF7-BC1D-B693B966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7F4-F18A-4094-BF09-8614F366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6D2-8335-4A6C-9D05-560904F5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4FF-79DB-4334-B1EE-7B780F2C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CB9-C021-405B-8396-FFDAD444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837-D72E-4506-93C3-EC67D0C6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BD3-74F8-4A89-B7D0-D4BDAD44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906-F9A4-4877-BAF4-E47DEF47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418-E454-4ADB-80C7-2687DB26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508-918C-419E-B72C-C15DD483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6D3-A92A-428A-801D-98C937D4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84E0-9432-4753-84B8-70FC39DD0F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1"/>
          <p:cNvPicPr/>
          <p:nvPr/>
        </p:nvPicPr>
        <p:blipFill>
          <a:blip r:embed="rId1"/>
          <a:stretch/>
        </p:blipFill>
        <p:spPr>
          <a:xfrm>
            <a:off x="-457200" y="-343080"/>
            <a:ext cx="10058400" cy="754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707200" y="950760"/>
            <a:ext cx="7902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"/>
          <p:cNvSpPr/>
          <p:nvPr/>
        </p:nvSpPr>
        <p:spPr>
          <a:xfrm>
            <a:off x="3414600" y="879480"/>
            <a:ext cx="100332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李旭科书法"/>
                <a:ea typeface="李旭科书法"/>
              </a:rPr>
              <a:t>中国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419640" y="3139920"/>
            <a:ext cx="54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430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499788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997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83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854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8613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4500720" y="3571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105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4200840" y="1924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272480" y="3638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200840" y="278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272480" y="456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573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6569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8:54:14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