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DD3-BAFC-4112-8AAE-67C1CEC7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1118-0514-4C88-86D2-ECEDF9D0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B1DF0-3CE2-4040-9BA7-CB960243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9AAAF-C33A-484C-B076-FBC24B32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B8589-329A-45B7-9FDD-145DD1F5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8FA24-9F1D-49CD-BE44-6109E37A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9C627-61F0-4DFD-9E07-F92930F5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01643-E73A-451C-B8F7-B7A26802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43184-E6FC-43EE-A7C7-0E91BC98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60FDE-A05D-44E6-8DB3-7A6441B7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E8E8B-FED4-4895-B91B-C5CBE374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3946F-3BEC-49EC-B575-7ADDB477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317A-C7F5-4244-ABBB-56E95EC3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D6917-D611-48D8-A2E1-30292A94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C01FE-42F6-4131-8BEE-037BB576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AEBBF-1ECE-4559-9521-386D4BFC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128DD-A3C8-4A1F-A233-D9344054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4E69F-0307-4C2D-92A9-55AA991C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127DB-1763-45C5-8E6D-B05C5826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E5A40-ECD9-4290-A7A6-6792A278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31075-1ACB-4275-9C62-B75FB3DB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B2B34-2644-4792-8B93-78E7246F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D1CAE-F5DA-4BFE-9C28-64AA09AE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B6E4-57AF-412B-AFD4-2A64A47B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B5341-2AF5-436E-9321-B283959A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EC4C8-D2E1-4DFB-878C-6C809624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A222A-AF95-4611-8FA8-439DA4E6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E60E8-7A6B-4BA4-9BEE-0B4D9B5D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BACC5-AAA5-4D39-BE63-262CAF9A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1A49F-349C-4AEA-877A-D5F7E3C5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3CC1D-298D-4753-BFB0-74C120AB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DED20-DE5A-4160-B9CF-13D2CEF5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AB435-C23C-4F19-968B-F5D6FBFE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AE973-A78D-49E0-8AF4-EB3D0292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1F33-388D-4701-AC1F-B67671EF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33079-0E46-4C42-989B-EE828169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061E4-2F64-4EDC-959F-3C1B3090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6FF89-9618-48F6-B515-BCA6F41B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478E5-2534-4434-B1FD-18492540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90149-4F4C-4211-93E8-F41E8FF0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B6E19-70A5-4133-A837-39E16AE5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B93F2-251E-4939-98A2-0ACF493B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BB7C1-EC89-4934-AEBA-AF895E11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1E3DF-BDFF-46F7-A3B6-C300F0B8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F72DC-2910-4E7F-920C-6AFFC0A9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982B-7995-4F4E-BFFC-ADC56053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D5846-395E-4BB9-BFBE-90383068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42A59-EAFD-4673-918A-838B8CB3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E1A03-EA6F-420B-9BF1-56AE1AB8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0F24B-B29A-4BFE-BDAC-523F39E7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52538-5AED-4707-A06F-4522693F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FB3B4C-72F0-41DC-91BE-055A186A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04C6A7-488C-426E-AF2E-521138FD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D5A0F-5F75-4DBB-9E4B-DE8927D7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67080-5D11-4B16-8939-B1CD1855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8ED280-4D2E-4D54-A166-F0CE43A8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BCE4-2BD0-417B-91DC-AD4952F4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30AE1-23DD-49E6-AD82-C4226DA8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457BF-755D-4DDE-A586-17802737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787779-B571-4FA0-98C7-499D0347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E9B32-9DB7-4215-A44B-A213CB5C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577808-759D-4CAA-9549-98159D47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20C82-2E5B-4F13-86D2-B13AB5AA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A3AD4-87F6-4771-B3E7-6138F9B1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E856-EF40-47B5-BDF0-41142767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A5F0-B125-4054-8DC9-3D386B4F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06F0-F45D-4930-9C2D-3B3A2C2F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6F77-9622-4AC6-BAE9-868F7A62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95E-02A7-490A-9321-38026577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7592-E0A5-4AE0-A07C-5CCF745F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4935-6E70-4793-8C9C-20B90B5E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5249-0EA6-4275-B165-82EB7C0E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910D-CA3D-4F34-9999-CB8D4124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F1B5-C12E-42A9-9EFD-F0E0821C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21822-3134-4D9C-801A-EF82883C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1B60C-3B40-4828-82B9-D3C3EA4D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50E44-8AA2-4F4B-B325-521B404E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DE188-B790-4C89-B374-6CBF238C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1A0BC-B8F2-47C0-B80C-70CA481C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22A5-ED72-4CED-A9D9-03B506AF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B5C34-89DE-4C10-9396-79771EC7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76B60-657C-4F37-9776-E48F5465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5BEBB-162F-4EFC-9E1E-E8C8C356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64525-123A-44C9-88BB-CB4B8175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D1382-C318-40D2-8F25-ABE92CC9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B46BA-A53E-45ED-B5AF-F09A05E7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3F7FD-89BD-489D-A720-880910DA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FC56B-31F4-4550-9748-87B1A502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49CC3-480F-4F42-912F-6CDC8845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DCCB1-1504-49EB-A11C-1C6BD36A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E78-680F-457E-A84A-A644C87E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B155B-FACF-44E0-B540-17173A65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EBE6C-AAED-4B51-B406-EFD4BA38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55C8C-3D33-438F-AFCD-93076150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40B7D-C395-416F-A008-11698401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3F7E7-F319-467F-9B5C-AAB7C98B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E6569-738A-49FC-8FAF-CEF2CBA0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5CCA1-CE50-42EF-A8A0-1F1829BD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5F22F-5782-4070-8A3A-C05B43F1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A008E-8427-4A32-9457-4306C66B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4F3E6-F6E6-4FD2-893F-B2744A9B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E8F-EA06-4EA5-8D21-DE230262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0F021-4F95-49D1-82B0-75AC6D2C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189A8-C7EF-4B63-B385-D5FE3EF3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1354A-F0D2-479C-B67D-A9BECE57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3A9A1-CD6D-4CE4-A29F-063D4758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E6D71-52EB-40CC-85B7-337A309A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FEA8F-20D2-4FBA-86BA-61A56392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4C3D1-2702-41A6-8F57-2AE4B557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B3E2A-0C7B-47F7-BA01-11AF6A1F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345D1-2F50-4290-8510-BD9EBCBE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BFEB0-B659-41F3-B94B-DFE8BE71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9B01-559D-46F8-AB55-3CED7377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27A23-90EF-4F3E-B025-8C5000C3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5C748-D669-45B8-A624-D0AD85FB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610E7-199E-4149-BBB9-DFCB8639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DA7F4-E175-4D57-8DF7-D7735A0E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F1586-D587-413B-8A4E-22D0B392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F1AC7-C0D1-4D1F-A11A-108F0D31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61271-8ED2-4230-8812-32FDD2BD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2929C-B975-4B56-A049-7C227498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8F75A-258B-4C3E-B2A3-0C41BC0A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B00A7-8D5F-4731-B6F8-39A0A1C7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B34-5AFC-4079-9FB7-9F7D225B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D10A9-4AFC-4F71-82BA-63BDC215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875D8-627C-487D-9781-F7B9EE65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14241-FD89-4FD7-8087-3495DFEE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4636B-9159-4797-84D2-1B9C305D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A63D0-0F97-45D7-8DDA-88A5C408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7B743-7658-4C75-8740-04A62AFF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6CDDB-C959-4202-A04D-9DDF96B4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10D6E-C457-4436-B1BC-E5CE4E57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8D4B1-D89D-4C08-A213-B57554EB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6B31C-DAE1-4585-90E3-8820E00B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792-28FA-4D4D-A446-81CCF962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88BAD-11E7-42E0-A590-04C55ABF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55F6F-307F-41A5-A899-A45328AA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35B46-DC6E-45F9-A52F-7402200F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CC67F-540A-4BB0-802C-415EB087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39C20-51AA-4F66-8B78-CE18B542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62C38-5814-44B6-BB3B-0C02D6A8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90DE7-C020-4EBD-9421-395AA32D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CE70F-F9A5-4BE8-A834-4977A935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C2D01-C0CA-4931-AD1D-CEDBB7C5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B8136-98FD-4930-8DBD-68C56989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650-17A9-4CF2-A7C0-0C1B27BB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D3267-AB22-4648-8668-C4D0EB26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9DCB9-1299-45E2-9C77-627E6383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89851-6D49-43C3-8A2E-8485A04C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45F22-C2C2-4A4B-9C10-0A356322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16EE2-F01A-47E6-967B-5F180377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89B3C-FAD6-433C-AE73-0FAED4F1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A7E26-8BA9-408A-B436-96E6EE4F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01F5C-AF72-4409-8C57-EDFA03A9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77AF9-0673-4EAC-ADF8-F960871C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9AA80-01E6-4934-8419-66327048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1440-FFAB-4835-A3B3-FFCE1062594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C4FF-A180-472B-880F-19992DCFB003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9E6B-23D5-4202-8538-B40EE4B42F2B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D0AE-B872-4369-B75F-7475C73EFD9C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61A4-522E-4524-8452-26A431362035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7EA8-6F51-4173-8E8E-16A8975D8F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F2F6-0472-4BD2-9F65-2142C1CEC46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E9F6-F555-40AB-9E35-961F7092483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BA1D-94D1-4AA3-965B-696A4CB7B25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39C0-5124-4AA1-9AD3-BD6E5843469A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EDE8-25B1-49B3-9D54-224340D3A07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9FC2-4C44-4E5D-B6F4-A1DCB0456681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C4ED-8282-42CB-957E-0BED8B2C6AD7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未标题-1"/>
          <p:cNvPicPr/>
          <p:nvPr/>
        </p:nvPicPr>
        <p:blipFill>
          <a:blip r:embed="rId1"/>
          <a:stretch/>
        </p:blipFill>
        <p:spPr>
          <a:xfrm>
            <a:off x="-168120" y="-88920"/>
            <a:ext cx="9491400" cy="7093080"/>
          </a:xfrm>
          <a:prstGeom prst="rect">
            <a:avLst/>
          </a:prstGeom>
          <a:ln w="0">
            <a:noFill/>
          </a:ln>
        </p:spPr>
      </p:pic>
      <p:sp>
        <p:nvSpPr>
          <p:cNvPr id="534" name="文本框 1"/>
          <p:cNvSpPr/>
          <p:nvPr/>
        </p:nvSpPr>
        <p:spPr>
          <a:xfrm>
            <a:off x="3629880" y="1940040"/>
            <a:ext cx="139932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刺绣</a:t>
            </a: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艺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2"/>
          <p:cNvSpPr/>
          <p:nvPr/>
        </p:nvSpPr>
        <p:spPr>
          <a:xfrm>
            <a:off x="2340000" y="5229360"/>
            <a:ext cx="40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mulu"/>
          <p:cNvPicPr/>
          <p:nvPr/>
        </p:nvPicPr>
        <p:blipFill>
          <a:blip r:embed="rId1"/>
          <a:stretch/>
        </p:blipFill>
        <p:spPr>
          <a:xfrm>
            <a:off x="-169920" y="-87480"/>
            <a:ext cx="9423360" cy="704556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1"/>
          <p:cNvSpPr/>
          <p:nvPr/>
        </p:nvSpPr>
        <p:spPr>
          <a:xfrm>
            <a:off x="239040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刺绣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2"/>
          <p:cNvSpPr/>
          <p:nvPr/>
        </p:nvSpPr>
        <p:spPr>
          <a:xfrm>
            <a:off x="329508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刺绣渊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3"/>
          <p:cNvSpPr/>
          <p:nvPr/>
        </p:nvSpPr>
        <p:spPr>
          <a:xfrm>
            <a:off x="422712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艺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4"/>
          <p:cNvSpPr/>
          <p:nvPr/>
        </p:nvSpPr>
        <p:spPr>
          <a:xfrm>
            <a:off x="515232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历代刺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5"/>
          <p:cNvSpPr/>
          <p:nvPr/>
        </p:nvSpPr>
        <p:spPr>
          <a:xfrm>
            <a:off x="605412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四大名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背景-01"/>
          <p:cNvPicPr/>
          <p:nvPr/>
        </p:nvPicPr>
        <p:blipFill>
          <a:blip r:embed="rId1"/>
          <a:stretch/>
        </p:blipFill>
        <p:spPr>
          <a:xfrm>
            <a:off x="0" y="-19080"/>
            <a:ext cx="9325080" cy="69595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过度 花圈-01"/>
          <p:cNvPicPr/>
          <p:nvPr/>
        </p:nvPicPr>
        <p:blipFill>
          <a:blip r:embed="rId2"/>
          <a:stretch/>
        </p:blipFill>
        <p:spPr>
          <a:xfrm>
            <a:off x="1495440" y="-17640"/>
            <a:ext cx="5813280" cy="30942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过度鸟2-01-01-01"/>
          <p:cNvPicPr/>
          <p:nvPr/>
        </p:nvPicPr>
        <p:blipFill>
          <a:blip r:embed="rId3"/>
          <a:stretch/>
        </p:blipFill>
        <p:spPr>
          <a:xfrm>
            <a:off x="1496880" y="-19080"/>
            <a:ext cx="5811840" cy="3092400"/>
          </a:xfrm>
          <a:prstGeom prst="rect">
            <a:avLst/>
          </a:prstGeom>
          <a:ln w="0">
            <a:noFill/>
          </a:ln>
        </p:spPr>
      </p:pic>
      <p:grpSp>
        <p:nvGrpSpPr>
          <p:cNvPr id="545" name="组合 3"/>
          <p:cNvGrpSpPr/>
          <p:nvPr/>
        </p:nvGrpSpPr>
        <p:grpSpPr>
          <a:xfrm>
            <a:off x="4308480" y="2946240"/>
            <a:ext cx="641520" cy="3095640"/>
            <a:chOff x="4308480" y="2946240"/>
            <a:chExt cx="641520" cy="3095640"/>
          </a:xfrm>
        </p:grpSpPr>
        <p:sp>
          <p:nvSpPr>
            <p:cNvPr id="546" name="文本框 1"/>
            <p:cNvSpPr/>
            <p:nvPr/>
          </p:nvSpPr>
          <p:spPr>
            <a:xfrm>
              <a:off x="4342680" y="3165120"/>
              <a:ext cx="606960" cy="24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刺绣简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2"/>
            <p:cNvSpPr/>
            <p:nvPr/>
          </p:nvSpPr>
          <p:spPr>
            <a:xfrm>
              <a:off x="4308480" y="2946240"/>
              <a:ext cx="641520" cy="3095640"/>
            </a:xfrm>
            <a:prstGeom prst="rect">
              <a:avLst/>
            </a:prstGeom>
            <a:noFill/>
            <a:ln w="34920">
              <a:solidFill>
                <a:srgbClr val="f5a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背景-01"/>
          <p:cNvPicPr/>
          <p:nvPr/>
        </p:nvPicPr>
        <p:blipFill>
          <a:blip r:embed="rId1"/>
          <a:stretch/>
        </p:blipFill>
        <p:spPr>
          <a:xfrm>
            <a:off x="0" y="-19080"/>
            <a:ext cx="9253440" cy="6959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xian"/>
          <p:cNvPicPr/>
          <p:nvPr/>
        </p:nvPicPr>
        <p:blipFill>
          <a:blip r:embed="rId2"/>
          <a:stretch/>
        </p:blipFill>
        <p:spPr>
          <a:xfrm>
            <a:off x="1495440" y="814320"/>
            <a:ext cx="6767640" cy="3110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xian2"/>
          <p:cNvPicPr/>
          <p:nvPr/>
        </p:nvPicPr>
        <p:blipFill>
          <a:blip r:embed="rId3"/>
          <a:stretch/>
        </p:blipFill>
        <p:spPr>
          <a:xfrm>
            <a:off x="1495440" y="5589720"/>
            <a:ext cx="6769080" cy="3124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鸟1-01"/>
          <p:cNvPicPr/>
          <p:nvPr/>
        </p:nvPicPr>
        <p:blipFill>
          <a:blip r:embed="rId4"/>
          <a:stretch/>
        </p:blipFill>
        <p:spPr>
          <a:xfrm>
            <a:off x="6753240" y="4005360"/>
            <a:ext cx="1922400" cy="28083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7" descr="文字-01"/>
          <p:cNvPicPr/>
          <p:nvPr/>
        </p:nvPicPr>
        <p:blipFill>
          <a:blip r:embed="rId5"/>
          <a:stretch/>
        </p:blipFill>
        <p:spPr>
          <a:xfrm>
            <a:off x="1487520" y="1424160"/>
            <a:ext cx="7137360" cy="3949560"/>
          </a:xfrm>
          <a:prstGeom prst="rect">
            <a:avLst/>
          </a:prstGeom>
          <a:ln w="0">
            <a:noFill/>
          </a:ln>
        </p:spPr>
      </p:pic>
      <p:grpSp>
        <p:nvGrpSpPr>
          <p:cNvPr id="553" name="组合 3"/>
          <p:cNvGrpSpPr/>
          <p:nvPr/>
        </p:nvGrpSpPr>
        <p:grpSpPr>
          <a:xfrm>
            <a:off x="423720" y="1779480"/>
            <a:ext cx="640080" cy="3095640"/>
            <a:chOff x="423720" y="1779480"/>
            <a:chExt cx="640080" cy="3095640"/>
          </a:xfrm>
        </p:grpSpPr>
        <p:sp>
          <p:nvSpPr>
            <p:cNvPr id="554" name="文本框 1"/>
            <p:cNvSpPr/>
            <p:nvPr/>
          </p:nvSpPr>
          <p:spPr>
            <a:xfrm>
              <a:off x="456840" y="1998360"/>
              <a:ext cx="606960" cy="24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刺绣简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矩形 2"/>
            <p:cNvSpPr/>
            <p:nvPr/>
          </p:nvSpPr>
          <p:spPr>
            <a:xfrm>
              <a:off x="423720" y="1779480"/>
              <a:ext cx="640080" cy="3095640"/>
            </a:xfrm>
            <a:prstGeom prst="rect">
              <a:avLst/>
            </a:prstGeom>
            <a:noFill/>
            <a:ln w="34920">
              <a:solidFill>
                <a:srgbClr val="f5a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未标题-1"/>
          <p:cNvPicPr/>
          <p:nvPr/>
        </p:nvPicPr>
        <p:blipFill>
          <a:blip r:embed="rId1"/>
          <a:stretch/>
        </p:blipFill>
        <p:spPr>
          <a:xfrm>
            <a:off x="-168120" y="-88920"/>
            <a:ext cx="9491400" cy="7093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谢谢-01-01"/>
          <p:cNvPicPr/>
          <p:nvPr/>
        </p:nvPicPr>
        <p:blipFill>
          <a:blip r:embed="rId2"/>
          <a:stretch/>
        </p:blipFill>
        <p:spPr>
          <a:xfrm>
            <a:off x="3851280" y="1611360"/>
            <a:ext cx="142704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559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2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567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571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04-05T07:55:27Z</dcterms:modified>
  <cp:revision>13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